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048E0-728E-44E0-94D1-8FDFF3BF3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C924A-EBED-424D-93AF-9CCAC2EDD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9C880-08CD-4D23-B18D-D64F028E9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CEC76-8459-454E-9FFD-ECFBF17E5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99807-2C50-4BA3-88AA-99598A554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C80C0-11D0-4AD9-8BC8-00C5B75F7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908FE-4D05-44FA-9F86-D46C2E64B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8C011-70C1-4E26-82B8-63E676D9C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8A97E-F390-45EF-BFAC-A5A63CB57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93708-1445-416D-8D7D-5BD6B363B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37910-EBB4-4F22-A3AB-518C19CE2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55A0C-42ED-42E0-AE79-AD5BA4902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12599-E0BA-4504-89AF-396245F5FB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30</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iguring the Reserve Rati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1 vs. M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d Reserve – The minimum amount of reserves (in cash or equivalent) required by law. Normally, required reserves are proportional to the volume of depos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 Reserves – Amy reserves held in excess of the legal minimum. Banks strive for this to be at 0.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228600"/>
            <a:ext cx="8229600" cy="5897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1 – The narrowly defined money supply - the sum of all coins and paper money in circulation, plus certain checkable deposit balances at banks and savings institutions (includes travelers checks and negotiable order of withdraw accou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2 – The broadly defined money supply – the sum of all coins and paper money in circulation, plus all types of checking account balances, plus most forms of savings account balances, plus shares in money market mutual fund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90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31</a:t>
            </a:r>
            <a:endParaRPr b="0" lang="en-US" sz="4400" spc="-1" strike="noStrike">
              <a:solidFill>
                <a:srgbClr val="000000"/>
              </a:solidFill>
              <a:latin typeface="Calibri"/>
            </a:endParaRPr>
          </a:p>
        </p:txBody>
      </p:sp>
      <p:sp>
        <p:nvSpPr>
          <p:cNvPr id="46" name="Subtitle 2"/>
          <p:cNvSpPr/>
          <p:nvPr/>
        </p:nvSpPr>
        <p:spPr>
          <a:xfrm>
            <a:off x="1371600" y="3352680"/>
            <a:ext cx="640080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ce of the F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lationary impact of expansionary poli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G+(X-IM) sensitivity to 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Reserve System</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central bank created in 191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ce allows for monetary control to stay out of the “political thick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it means that the Fed’s decisions could work against fiscal policy decis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tary Policie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etary Policies that expand the money supply normally lowers i. Monetary policies that reduce the money supply usually increase 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i on C+I+G+(X-IM)</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Interest rates lead to lower investment spen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i rises, total spending f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i falls, total spending increa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2:42:03Z</dcterms:created>
  <dc:creator>Dickson.J419</dc:creator>
  <dc:description/>
  <dc:language>en-US</dc:language>
  <cp:lastModifiedBy>jwussler</cp:lastModifiedBy>
  <dcterms:modified xsi:type="dcterms:W3CDTF">2009-01-27T15:17:46Z</dcterms:modified>
  <cp:revision>5</cp:revision>
  <dc:subject/>
  <dc:title>Chapter 30</dc:title>
</cp:coreProperties>
</file>